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A43-4372-425B-B845-DA42D87E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D17-D1B3-4BDC-9541-8B109763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778-8EE2-41AE-829B-C93BC7E6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C912-772D-4946-B6F6-CFD69B7A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C2CF9-3CA9-464D-94D3-4C0B9D53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01FBC-EAAC-47DD-A566-BD766977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61D6D-1608-4FBD-B2A7-9B06D7F8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10986-664D-4015-A281-F622AABB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F8DC2-0512-429D-8C52-B39785F3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98CA6-DF9E-4E59-9B31-B88248E9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313E4-6281-45AF-9BF6-E35E36B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DC2-8BA0-4CD5-AE5B-2797009B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0F8D5-E824-4B4B-B23F-263E9B71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29FD0-5A01-482A-89B7-D476E07A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B94DC-F622-484A-83F0-27A8811B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66D72-A57A-44CB-875E-E36B7E66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ADD1D-2594-4D04-9D2B-EF06AFA6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7DA-D621-4D1F-AFB8-439412F4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2CE-F84D-40A2-901E-01028913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61C-B908-4653-8753-0773A67B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3AC-9E3E-4ED6-98D9-4E849A1C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D17-CA3F-45E2-A679-FF72A3D7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531-2398-4768-9BF6-CA05AC89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3EA-9EF1-4455-BF49-D5A518C9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5b5b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529ab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f5f8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49497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9E89-DFB0-4432-A02B-544392DA27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5b5b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529ab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f5f8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49497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3428-FDB1-4F6D-A473-76D6C9EC81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6ccd4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ploratorium.edu/ronh/solar_system/" TargetMode="External"/><Relationship Id="rId2" Type="http://schemas.openxmlformats.org/officeDocument/2006/relationships/hyperlink" Target="http://www.bradley.edu/las/phy/astronomy/about_solar.html" TargetMode="External"/><Relationship Id="rId3" Type="http://schemas.openxmlformats.org/officeDocument/2006/relationships/hyperlink" Target="http://liftoff.msfc.nasa.gov/academy/space/solarsystem/solarsystemjava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ccd4"/>
                </a:solidFill>
                <a:latin typeface="Arial"/>
              </a:rPr>
              <a:t>Lesson #13</a:t>
            </a:r>
            <a:br>
              <a:rPr sz="2400"/>
            </a:br>
            <a:r>
              <a:rPr b="1" lang="en-US" sz="2400" spc="-1" strike="noStrike">
                <a:solidFill>
                  <a:srgbClr val="c6ccd4"/>
                </a:solidFill>
                <a:latin typeface="Arial"/>
              </a:rPr>
              <a:t>Topic: The Earth, Sun, and Solar System</a:t>
            </a:r>
            <a:endParaRPr b="0" lang="en-US" sz="2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why the earth experiences different seas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information about our sola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scale model of our sola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3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724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ain why the weather is changing from summer to fal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562720"/>
            <a:ext cx="7696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page planet paper (1 per team) due Thursday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 development 13.3 &amp; 14.1 due Frid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How big is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How big is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1025640"/>
            <a:ext cx="81532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o how do we measure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, so I get the idea of big, but how do we measure such large distan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way is to use the idea of time and velocity as a distance. d = 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ed of light works nicely because it is a constant and it is very very very fa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years work nice too, because we live on earth, and to us, a year is a long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ght-year is the distance light travels in a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km is a light-year? c = 3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8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o how do we measure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way to measure is by use of parse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arsec is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ax angle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s of arc. (degrees can be broken down into subunits of minutes and seconds) A second = 1/360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 degr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3124080"/>
            <a:ext cx="3504960" cy="3200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29718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38640" y="618156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6248520"/>
            <a:ext cx="152280" cy="1522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5943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1240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95600" y="5877000"/>
            <a:ext cx="3500280" cy="89064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’s or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7800" y="40006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48"/>
                </a:moveTo>
                <a:cubicBezTo>
                  <a:pt x="48" y="52"/>
                  <a:pt x="96" y="56"/>
                  <a:pt x="144" y="48"/>
                </a:cubicBezTo>
                <a:cubicBezTo>
                  <a:pt x="192" y="40"/>
                  <a:pt x="264" y="16"/>
                  <a:pt x="28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52920" y="5867280"/>
            <a:ext cx="38124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240" y="0"/>
                </a:moveTo>
                <a:cubicBezTo>
                  <a:pt x="208" y="12"/>
                  <a:pt x="176" y="24"/>
                  <a:pt x="144" y="48"/>
                </a:cubicBezTo>
                <a:cubicBezTo>
                  <a:pt x="112" y="72"/>
                  <a:pt x="72" y="104"/>
                  <a:pt x="48" y="144"/>
                </a:cubicBezTo>
                <a:cubicBezTo>
                  <a:pt x="24" y="184"/>
                  <a:pt x="12" y="236"/>
                  <a:pt x="0" y="2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5943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o how do we measure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basic geometry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495680" y="1447920"/>
                <a:ext cx="15242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590920" y="3124080"/>
            <a:ext cx="3504960" cy="3200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9718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38640" y="618156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6248520"/>
            <a:ext cx="152280" cy="1522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943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31240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5600" y="5877000"/>
            <a:ext cx="3500280" cy="89064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’s or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7800" y="40006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48"/>
                </a:moveTo>
                <a:cubicBezTo>
                  <a:pt x="48" y="52"/>
                  <a:pt x="96" y="56"/>
                  <a:pt x="144" y="48"/>
                </a:cubicBezTo>
                <a:cubicBezTo>
                  <a:pt x="192" y="40"/>
                  <a:pt x="264" y="16"/>
                  <a:pt x="28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52920" y="5867280"/>
            <a:ext cx="38124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240" y="0"/>
                </a:moveTo>
                <a:cubicBezTo>
                  <a:pt x="208" y="12"/>
                  <a:pt x="176" y="24"/>
                  <a:pt x="144" y="48"/>
                </a:cubicBezTo>
                <a:cubicBezTo>
                  <a:pt x="112" y="72"/>
                  <a:pt x="72" y="104"/>
                  <a:pt x="48" y="144"/>
                </a:cubicBezTo>
                <a:cubicBezTo>
                  <a:pt x="24" y="184"/>
                  <a:pt x="12" y="236"/>
                  <a:pt x="0" y="2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5943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62120" y="2514600"/>
                <a:ext cx="259056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647712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2666880"/>
            <a:ext cx="3657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use tan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≈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very sm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arsec is measured as 1/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measured in seconds (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pc = 3.26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ar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ore stars in the sky than grains of sand in the entir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see that stars come in all sorts of sizes, masses, colors, temperatures, and bright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’ll start with our own star, the S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n is a very typically average star (thank goodnes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Fun Sun Fact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meter = 863,040 miles; 109 x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= 328,000 x Earth’s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= 1.3 million times Earth’s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Temperature = 9,93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re Temperature = 27,000,000°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tation period = 27.28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smic year = 225 mill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imated age = 4.6 bill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s are born from clouds of gas and dust that makes up a high proportion of the material found in normal galax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clouds of gas and dust are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bula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vitation pulls this matter in tighter and tighter into distinct large and separate clum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clumps form into st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ightness, temperature, and color of each star depends on how much mass is in the clum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nse gravitational force from the gigantic mass creates enough pressure on the gas (hydrogen) at the center of the star to begin undergoing nuclear f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s are literally squished together to form new denser atoms (heliu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action gives of a tremendous amount of energy which causes it to occur even more frequently. (a chain rea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r is in a constant battle of trying to explode and implode at the sam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ar reaction in the core makes it want to expl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nse gravitation makes it want to impl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sults in a balance that we currently have occurring in our st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star reaches this point it has enter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in sequ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st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ccd4"/>
                </a:solidFill>
                <a:latin typeface="Arial"/>
              </a:rPr>
              <a:t>Why does the Earth have seasons?</a:t>
            </a:r>
            <a:endParaRPr b="0" lang="en-US" sz="40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arth’s axis is tilted at a 23.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angl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results in some regions of the earth receiving direct sunlight only part of the ye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sunlight will have a higher concentration of light per area. *Flashlight Demo*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sunlight has less atmosphere to travel through, therefore less energy is absorbed by a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ter regions have longer periods of darkness than light, therefore having more time to cool and less time to warm. The opposite is true for summer reg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20063400">
            <a:off x="2971800" y="5181480"/>
            <a:ext cx="141300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90760" y="56437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5334120"/>
            <a:ext cx="68580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86080" y="583884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81040" y="6019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61960" y="6324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1722000">
            <a:off x="6857640" y="5105520"/>
            <a:ext cx="1413000" cy="1447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6960" y="5567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238520" y="5286240"/>
            <a:ext cx="6858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72280" y="5762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7240" y="5943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2560" y="6095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2560" y="6248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62000" y="6405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6324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sequence is where a star will spend the majority of its lif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sequence stars are of average temperature, brightness, and size. (Dwarf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Sun will continue to burn hydrogen for another 5 billion years or so until it starts getting low on hydrogen and high on hel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core of the star gets more and more helium, and denser and denser, gravity gets even stronger and the temperature gets hotter and ho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reases the rate of fusion, and the exploding core starts win against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 blows up to thousands of times its original size to what is called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d g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crease in pressure allows for cooling on the surface which gives it its red co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Sun will one day blow up to the point where its outer surface will consume the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ion continues even though we’re out of hydrogen… we’re now fusing 3 helium atoms at a time into even denser carbon ato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atoms start fusing into even heavier atoms like iron and nick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actions of these heavy metal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qui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ergy rather than give off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crease in energy allows gravity to start to win the battle, and the star implo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s like our Sun will then retire a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hite dwar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 tremendously dense and hot star about the size of the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star finally runs out of energy it become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lack dwar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 dark cold hunk of a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s more massive than our Sun may collapse and be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utron st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lack ho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rs have enough mass and become dense enough, such that the intense gravitation causes the electrons of the atoms to “reverse decay” and combine with protons to form neutr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neutron stars are no longer made of atoms, just neutr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utron star will eventually reach critical density and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pernov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ll occ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 blows up and becomes a new nebula of all sorts of matter. (Perhaps a way we came about having all the convenient elements we have here on earth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rs have enough mass and become dense enough that the gravitational force (at this point) is stronger than even the strong nuclear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plosion can occur because nothing can escape from this point in the universe, not even light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referred to a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lack ho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Sun is not massive enough to become a black hole, but if it we’re to happen all of the sudden, would the Earth be sucked int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ccd4"/>
                </a:solidFill>
                <a:latin typeface="Arial"/>
              </a:rPr>
              <a:t>H-R Diagram</a:t>
            </a:r>
            <a:endParaRPr b="0" lang="en-US" sz="4000" spc="-1" strike="noStrike">
              <a:solidFill>
                <a:srgbClr val="c6ccd4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Galaxies 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alaxy is of course the Milky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a diameter of 100,000 ly and a thickness of 2000 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spiral galaxy with a bulging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ontains about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lso about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bservable galaxies from Earth. Some of these galaxies are clumped close together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perclust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uch like stars are clumped close together within galax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Telescopes or Time Machines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look up into the night sky, you are actually looking millions of years into the pa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ight that is reaching the earth from distant stars has traveled for so many years, that the star you are looking at may not even exist anymo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act, the further and deeper you look into space, the further you look back into ti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 enough that we can begin to put together a good idea of the origin of the universe, and theorize where the universe is hea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Cosmolog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mology is the study of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Universe infinite, or finite? If it is finite what is outside of it? If it is infinite, has it always been expandi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als especially as a search for a theoretical framework to understand the observed universe, its origin, and its fu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he early history of the universe and its support from cosmic microwave background rad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he expansion of the univer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he open, flat, closed, and cyclic universe the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olar System Projec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nd your partner are to research a planet chosen by your instruct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of you will write a 1 page paper answering the following key ques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then present your information to the class and create an appropriate scale model of your planet to be used in a scale model of the solar 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be graded on how well you are able to answer the following questions in your paper as well as in your present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olar System Projec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far away is the Sun from your plan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ass of the plan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composition of the surface and atmosp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average surface temperature during day and n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period of rev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period of ro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Sun had a diameter of 238mm, how far away would this planet be and what would be the size of the plan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Website Fun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4529ab"/>
                </a:solidFill>
                <a:uFillTx/>
                <a:latin typeface="Arial"/>
                <a:hlinkClick r:id="rId1"/>
              </a:rPr>
              <a:t>http://www.exploratorium.edu/ronh/solar_system/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4529ab"/>
                </a:solidFill>
                <a:uFillTx/>
                <a:latin typeface="Arial"/>
                <a:hlinkClick r:id="rId2"/>
              </a:rPr>
              <a:t>http://www.bradley.edu/las/phy/astronomy/about_solar.html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4529ab"/>
                </a:solidFill>
                <a:uFillTx/>
                <a:latin typeface="Arial"/>
                <a:hlinkClick r:id="rId3"/>
              </a:rPr>
              <a:t>http://liftoff.msfc.nasa.gov/academy/space/solarsystem/solarsystemjava.htm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ccd4"/>
                </a:solidFill>
                <a:latin typeface="Arial"/>
              </a:rPr>
              <a:t>Lesson #14</a:t>
            </a:r>
            <a:br>
              <a:rPr sz="2400"/>
            </a:br>
            <a:r>
              <a:rPr b="1" lang="en-US" sz="2400" spc="-1" strike="noStrike">
                <a:solidFill>
                  <a:srgbClr val="c6ccd4"/>
                </a:solidFill>
                <a:latin typeface="Arial"/>
              </a:rPr>
              <a:t>Topic: Stars, Galaxies, and the Universe </a:t>
            </a:r>
            <a:endParaRPr b="0" lang="en-US" sz="2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stellar 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galaxies and other extragalactic e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a light year, a parsec, and how intergalactic distances are mea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and discuss basic cosm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6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419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opinion, is the earth big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181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Exam Review” due at the end of the period on Tues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How big is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4920" y="1030320"/>
            <a:ext cx="8458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How big is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106640"/>
            <a:ext cx="822960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How big is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116000"/>
            <a:ext cx="83059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 Matthew Shrader</cp:lastModifiedBy>
  <dcterms:modified xsi:type="dcterms:W3CDTF">2006-10-04T04:02:46Z</dcterms:modified>
  <cp:revision>46</cp:revision>
  <dc:subject/>
  <dc:title>Lesson #1 8/29/06 </dc:title>
</cp:coreProperties>
</file>